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7D9-44A2-41F4-A31A-D7C4EE96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3632-9889-4851-93E4-BE609ED1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1EFD-0DB7-4606-9AB1-D4FF8C28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DB5C-D499-4CBB-A128-FBF6DA69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29B4-63B9-436D-8648-829A958E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68F9-7800-4E73-9723-0AF8096F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5324-397F-4BFC-A093-81A27389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79F5-3690-4956-B95B-F7880123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E0EB-CD7C-46DA-B916-6C774C3C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6DC1-5422-499D-911D-4D7D97C1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3E45-8AA7-429D-BDE9-7B011EB4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CDD-2B44-428F-8C1F-911BF6C0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B19C-0B8D-4927-96A4-4AC41315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7A47-10C2-48F9-8B3A-9881D661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4514-ACAD-4D6B-95C3-080CE2B8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B6B7-F5CC-4771-A352-7A422A32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55F2-0A72-48FC-92DE-A2BE62E4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06C-0D67-4701-9679-7EEF2B37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6F2-C002-40C0-9318-7FC4BFD8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9934-2F54-4983-BC85-F5F22EFF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D74-FB7B-474B-9DE1-D0A98657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23CF-3C7D-486D-A7E7-A77E5BEF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2B5-50B5-44EE-B7EF-E7175730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5D34-ED95-40D5-8F20-0627C458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1680" y="316080"/>
            <a:ext cx="8472600" cy="6205320"/>
          </a:xfrm>
          <a:custGeom>
            <a:avLst/>
            <a:gdLst/>
            <a:ahLst/>
            <a:rect l="l" t="t" r="r" b="b"/>
            <a:pathLst>
              <a:path w="5337" h="3909">
                <a:moveTo>
                  <a:pt x="1613" y="0"/>
                </a:moveTo>
                <a:cubicBezTo>
                  <a:pt x="1860" y="5"/>
                  <a:pt x="2283" y="11"/>
                  <a:pt x="2671" y="24"/>
                </a:cubicBezTo>
                <a:cubicBezTo>
                  <a:pt x="3123" y="43"/>
                  <a:pt x="3396" y="53"/>
                  <a:pt x="3709" y="72"/>
                </a:cubicBezTo>
                <a:cubicBezTo>
                  <a:pt x="4021" y="90"/>
                  <a:pt x="4465" y="100"/>
                  <a:pt x="4619" y="106"/>
                </a:cubicBezTo>
                <a:cubicBezTo>
                  <a:pt x="4773" y="112"/>
                  <a:pt x="4861" y="118"/>
                  <a:pt x="4953" y="123"/>
                </a:cubicBezTo>
                <a:lnTo>
                  <a:pt x="5170" y="137"/>
                </a:lnTo>
                <a:cubicBezTo>
                  <a:pt x="5222" y="147"/>
                  <a:pt x="5242" y="153"/>
                  <a:pt x="5266" y="185"/>
                </a:cubicBezTo>
                <a:cubicBezTo>
                  <a:pt x="5290" y="217"/>
                  <a:pt x="5303" y="208"/>
                  <a:pt x="5314" y="329"/>
                </a:cubicBezTo>
                <a:cubicBezTo>
                  <a:pt x="5325" y="450"/>
                  <a:pt x="5337" y="617"/>
                  <a:pt x="5334" y="914"/>
                </a:cubicBezTo>
                <a:cubicBezTo>
                  <a:pt x="5331" y="1211"/>
                  <a:pt x="5315" y="1674"/>
                  <a:pt x="5296" y="2112"/>
                </a:cubicBezTo>
                <a:cubicBezTo>
                  <a:pt x="5277" y="2550"/>
                  <a:pt x="5232" y="3278"/>
                  <a:pt x="5218" y="3545"/>
                </a:cubicBezTo>
                <a:cubicBezTo>
                  <a:pt x="5202" y="3808"/>
                  <a:pt x="5225" y="3668"/>
                  <a:pt x="5210" y="3716"/>
                </a:cubicBezTo>
                <a:cubicBezTo>
                  <a:pt x="5194" y="3763"/>
                  <a:pt x="5180" y="3827"/>
                  <a:pt x="5094" y="3855"/>
                </a:cubicBezTo>
                <a:cubicBezTo>
                  <a:pt x="5007" y="3882"/>
                  <a:pt x="4781" y="3886"/>
                  <a:pt x="4540" y="3893"/>
                </a:cubicBezTo>
                <a:cubicBezTo>
                  <a:pt x="4299" y="3900"/>
                  <a:pt x="4088" y="3909"/>
                  <a:pt x="3648" y="3901"/>
                </a:cubicBezTo>
                <a:cubicBezTo>
                  <a:pt x="3208" y="3893"/>
                  <a:pt x="2453" y="3869"/>
                  <a:pt x="1956" y="3847"/>
                </a:cubicBezTo>
                <a:cubicBezTo>
                  <a:pt x="1459" y="3825"/>
                  <a:pt x="1013" y="3801"/>
                  <a:pt x="717" y="3785"/>
                </a:cubicBezTo>
                <a:cubicBezTo>
                  <a:pt x="421" y="3769"/>
                  <a:pt x="353" y="3770"/>
                  <a:pt x="248" y="3755"/>
                </a:cubicBezTo>
                <a:cubicBezTo>
                  <a:pt x="142" y="3739"/>
                  <a:pt x="119" y="3755"/>
                  <a:pt x="82" y="3689"/>
                </a:cubicBezTo>
                <a:cubicBezTo>
                  <a:pt x="40" y="3625"/>
                  <a:pt x="38" y="3482"/>
                  <a:pt x="25" y="3355"/>
                </a:cubicBezTo>
                <a:cubicBezTo>
                  <a:pt x="12" y="3228"/>
                  <a:pt x="4" y="3094"/>
                  <a:pt x="2" y="2924"/>
                </a:cubicBezTo>
                <a:cubicBezTo>
                  <a:pt x="0" y="2754"/>
                  <a:pt x="0" y="2625"/>
                  <a:pt x="13" y="2336"/>
                </a:cubicBezTo>
                <a:lnTo>
                  <a:pt x="82" y="1193"/>
                </a:lnTo>
                <a:lnTo>
                  <a:pt x="125" y="432"/>
                </a:lnTo>
                <a:cubicBezTo>
                  <a:pt x="146" y="246"/>
                  <a:pt x="147" y="124"/>
                  <a:pt x="209" y="78"/>
                </a:cubicBezTo>
                <a:cubicBezTo>
                  <a:pt x="271" y="32"/>
                  <a:pt x="250" y="65"/>
                  <a:pt x="418" y="41"/>
                </a:cubicBezTo>
                <a:lnTo>
                  <a:pt x="813" y="17"/>
                </a:lnTo>
                <a:cubicBezTo>
                  <a:pt x="1012" y="10"/>
                  <a:pt x="1446" y="4"/>
                  <a:pt x="1613" y="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c1140b"/>
            </a:solidFill>
            <a:round/>
          </a:ln>
          <a:effectLst>
            <a:outerShdw dist="81185" dir="3078030" blurRad="0" rotWithShape="0">
              <a:srgbClr val="8f0b1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8f0b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  <a:p>
            <a:pPr lvl="1" marL="594360" indent="-228600">
              <a:spcBef>
                <a:spcPts val="799"/>
              </a:spcBef>
              <a:buClr>
                <a:srgbClr val="8f0b1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  <a:p>
            <a:pPr lvl="2" marL="914400" indent="-182880">
              <a:spcBef>
                <a:spcPts val="799"/>
              </a:spcBef>
              <a:buClr>
                <a:srgbClr val="8f0b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  <a:p>
            <a:pPr lvl="3" marL="1280160" indent="-182880">
              <a:spcBef>
                <a:spcPts val="799"/>
              </a:spcBef>
              <a:buClr>
                <a:srgbClr val="8f0b1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  <a:p>
            <a:pPr lvl="4" marL="1645920" indent="-182880">
              <a:spcBef>
                <a:spcPts val="799"/>
              </a:spcBef>
              <a:buClr>
                <a:srgbClr val="8f0b18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  <a:p>
            <a:pPr lvl="5" marL="1645920" indent="-182880">
              <a:spcBef>
                <a:spcPts val="799"/>
              </a:spcBef>
              <a:buClr>
                <a:srgbClr val="8f0b18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  <a:p>
            <a:pPr lvl="6" marL="1645920" indent="-182880">
              <a:spcBef>
                <a:spcPts val="799"/>
              </a:spcBef>
              <a:buClr>
                <a:srgbClr val="8f0b18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844560" y="1600200"/>
            <a:ext cx="7486560" cy="609480"/>
            <a:chOff x="844560" y="1600200"/>
            <a:chExt cx="7486560" cy="609480"/>
          </a:xfrm>
        </p:grpSpPr>
        <p:sp>
          <p:nvSpPr>
            <p:cNvPr id="3" name=""/>
            <p:cNvSpPr/>
            <p:nvPr/>
          </p:nvSpPr>
          <p:spPr>
            <a:xfrm>
              <a:off x="844560" y="1600200"/>
              <a:ext cx="7486560" cy="609480"/>
            </a:xfrm>
            <a:custGeom>
              <a:avLst/>
              <a:gdLst/>
              <a:ahLst/>
              <a:rect l="l" t="t" r="r" b="b"/>
              <a:pathLst>
                <a:path w="4716" h="456">
                  <a:moveTo>
                    <a:pt x="96" y="88"/>
                  </a:moveTo>
                  <a:cubicBezTo>
                    <a:pt x="175" y="64"/>
                    <a:pt x="288" y="16"/>
                    <a:pt x="480" y="40"/>
                  </a:cubicBezTo>
                  <a:cubicBezTo>
                    <a:pt x="671" y="63"/>
                    <a:pt x="984" y="224"/>
                    <a:pt x="1248" y="232"/>
                  </a:cubicBezTo>
                  <a:cubicBezTo>
                    <a:pt x="1512" y="240"/>
                    <a:pt x="1808" y="120"/>
                    <a:pt x="2064" y="88"/>
                  </a:cubicBezTo>
                  <a:cubicBezTo>
                    <a:pt x="2320" y="56"/>
                    <a:pt x="2464" y="0"/>
                    <a:pt x="2784" y="40"/>
                  </a:cubicBezTo>
                  <a:cubicBezTo>
                    <a:pt x="3103" y="79"/>
                    <a:pt x="3687" y="303"/>
                    <a:pt x="3984" y="328"/>
                  </a:cubicBezTo>
                  <a:cubicBezTo>
                    <a:pt x="4280" y="352"/>
                    <a:pt x="4439" y="200"/>
                    <a:pt x="4560" y="184"/>
                  </a:cubicBezTo>
                  <a:cubicBezTo>
                    <a:pt x="4680" y="167"/>
                    <a:pt x="4716" y="192"/>
                    <a:pt x="4704" y="232"/>
                  </a:cubicBezTo>
                  <a:cubicBezTo>
                    <a:pt x="4692" y="272"/>
                    <a:pt x="4687" y="248"/>
                    <a:pt x="4608" y="280"/>
                  </a:cubicBezTo>
                  <a:cubicBezTo>
                    <a:pt x="4528" y="311"/>
                    <a:pt x="4368" y="399"/>
                    <a:pt x="4224" y="424"/>
                  </a:cubicBezTo>
                  <a:cubicBezTo>
                    <a:pt x="4079" y="448"/>
                    <a:pt x="3928" y="456"/>
                    <a:pt x="3744" y="424"/>
                  </a:cubicBezTo>
                  <a:cubicBezTo>
                    <a:pt x="3560" y="392"/>
                    <a:pt x="3287" y="279"/>
                    <a:pt x="3120" y="232"/>
                  </a:cubicBezTo>
                  <a:cubicBezTo>
                    <a:pt x="2952" y="184"/>
                    <a:pt x="2856" y="152"/>
                    <a:pt x="2736" y="136"/>
                  </a:cubicBezTo>
                  <a:cubicBezTo>
                    <a:pt x="2615" y="119"/>
                    <a:pt x="2551" y="120"/>
                    <a:pt x="2400" y="136"/>
                  </a:cubicBezTo>
                  <a:cubicBezTo>
                    <a:pt x="2248" y="151"/>
                    <a:pt x="1960" y="208"/>
                    <a:pt x="1824" y="232"/>
                  </a:cubicBezTo>
                  <a:cubicBezTo>
                    <a:pt x="1688" y="256"/>
                    <a:pt x="1658" y="264"/>
                    <a:pt x="1584" y="280"/>
                  </a:cubicBezTo>
                  <a:cubicBezTo>
                    <a:pt x="1509" y="295"/>
                    <a:pt x="1456" y="317"/>
                    <a:pt x="1376" y="325"/>
                  </a:cubicBezTo>
                  <a:cubicBezTo>
                    <a:pt x="1296" y="333"/>
                    <a:pt x="1229" y="351"/>
                    <a:pt x="1104" y="328"/>
                  </a:cubicBezTo>
                  <a:cubicBezTo>
                    <a:pt x="978" y="304"/>
                    <a:pt x="727" y="215"/>
                    <a:pt x="624" y="184"/>
                  </a:cubicBezTo>
                  <a:cubicBezTo>
                    <a:pt x="520" y="152"/>
                    <a:pt x="532" y="148"/>
                    <a:pt x="480" y="136"/>
                  </a:cubicBezTo>
                  <a:cubicBezTo>
                    <a:pt x="427" y="123"/>
                    <a:pt x="371" y="103"/>
                    <a:pt x="307" y="110"/>
                  </a:cubicBezTo>
                  <a:cubicBezTo>
                    <a:pt x="243" y="117"/>
                    <a:pt x="146" y="171"/>
                    <a:pt x="96" y="184"/>
                  </a:cubicBezTo>
                  <a:cubicBezTo>
                    <a:pt x="45" y="196"/>
                    <a:pt x="0" y="200"/>
                    <a:pt x="0" y="184"/>
                  </a:cubicBezTo>
                  <a:cubicBezTo>
                    <a:pt x="0" y="168"/>
                    <a:pt x="16" y="111"/>
                    <a:pt x="96" y="88"/>
                  </a:cubicBezTo>
                  <a:close/>
                </a:path>
              </a:pathLst>
            </a:custGeom>
            <a:solidFill>
              <a:srgbClr val="c1140b"/>
            </a:solidFill>
            <a:ln w="0">
              <a:noFill/>
            </a:ln>
            <a:effectLst>
              <a:outerShdw dist="85328" dir="1593903" blurRad="0" rotWithShape="0">
                <a:srgbClr val="4c4c4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f0b18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95320" y="1660680"/>
              <a:ext cx="7334280" cy="441000"/>
            </a:xfrm>
            <a:custGeom>
              <a:avLst/>
              <a:gdLst/>
              <a:ahLst/>
              <a:rect l="l" t="t" r="r" b="b"/>
              <a:pathLst>
                <a:path w="4620" h="278">
                  <a:moveTo>
                    <a:pt x="0" y="89"/>
                  </a:moveTo>
                  <a:cubicBezTo>
                    <a:pt x="76" y="53"/>
                    <a:pt x="185" y="28"/>
                    <a:pt x="260" y="17"/>
                  </a:cubicBezTo>
                  <a:cubicBezTo>
                    <a:pt x="334" y="5"/>
                    <a:pt x="362" y="4"/>
                    <a:pt x="448" y="18"/>
                  </a:cubicBezTo>
                  <a:cubicBezTo>
                    <a:pt x="540" y="38"/>
                    <a:pt x="672" y="74"/>
                    <a:pt x="776" y="98"/>
                  </a:cubicBezTo>
                  <a:cubicBezTo>
                    <a:pt x="872" y="121"/>
                    <a:pt x="952" y="144"/>
                    <a:pt x="1028" y="158"/>
                  </a:cubicBezTo>
                  <a:cubicBezTo>
                    <a:pt x="1103" y="172"/>
                    <a:pt x="1156" y="181"/>
                    <a:pt x="1228" y="182"/>
                  </a:cubicBezTo>
                  <a:cubicBezTo>
                    <a:pt x="1299" y="182"/>
                    <a:pt x="1330" y="181"/>
                    <a:pt x="1456" y="162"/>
                  </a:cubicBezTo>
                  <a:cubicBezTo>
                    <a:pt x="1581" y="142"/>
                    <a:pt x="1790" y="92"/>
                    <a:pt x="1984" y="66"/>
                  </a:cubicBezTo>
                  <a:cubicBezTo>
                    <a:pt x="2177" y="39"/>
                    <a:pt x="2419" y="0"/>
                    <a:pt x="2616" y="5"/>
                  </a:cubicBezTo>
                  <a:cubicBezTo>
                    <a:pt x="2812" y="9"/>
                    <a:pt x="2966" y="52"/>
                    <a:pt x="3164" y="94"/>
                  </a:cubicBezTo>
                  <a:cubicBezTo>
                    <a:pt x="3361" y="135"/>
                    <a:pt x="3626" y="227"/>
                    <a:pt x="3800" y="253"/>
                  </a:cubicBezTo>
                  <a:cubicBezTo>
                    <a:pt x="3973" y="278"/>
                    <a:pt x="4089" y="263"/>
                    <a:pt x="4204" y="246"/>
                  </a:cubicBezTo>
                  <a:cubicBezTo>
                    <a:pt x="4318" y="228"/>
                    <a:pt x="4418" y="167"/>
                    <a:pt x="4488" y="150"/>
                  </a:cubicBezTo>
                  <a:cubicBezTo>
                    <a:pt x="4557" y="132"/>
                    <a:pt x="4592" y="140"/>
                    <a:pt x="4620" y="138"/>
                  </a:cubicBezTo>
                </a:path>
              </a:pathLst>
            </a:custGeom>
            <a:noFill/>
            <a:ln w="22320">
              <a:solidFill>
                <a:srgbClr val="f562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f0b18"/>
                </a:solidFill>
                <a:latin typeface="Times New Roman"/>
              </a:endParaRPr>
            </a:p>
          </p:txBody>
        </p:sp>
      </p:grp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57150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f0b1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0b1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57150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f0b1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0b1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57150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f0b1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A4A7-916A-49BD-8CAA-74224521BC5B}" type="slidenum">
              <a:rPr b="0" lang="en-US" sz="1400" spc="-1" strike="noStrike">
                <a:solidFill>
                  <a:srgbClr val="8f0b1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1680" y="316080"/>
            <a:ext cx="8472600" cy="6205320"/>
          </a:xfrm>
          <a:custGeom>
            <a:avLst/>
            <a:gdLst/>
            <a:ahLst/>
            <a:rect l="l" t="t" r="r" b="b"/>
            <a:pathLst>
              <a:path w="5337" h="3909">
                <a:moveTo>
                  <a:pt x="1613" y="0"/>
                </a:moveTo>
                <a:cubicBezTo>
                  <a:pt x="1860" y="5"/>
                  <a:pt x="2283" y="11"/>
                  <a:pt x="2671" y="24"/>
                </a:cubicBezTo>
                <a:cubicBezTo>
                  <a:pt x="3123" y="43"/>
                  <a:pt x="3396" y="53"/>
                  <a:pt x="3709" y="72"/>
                </a:cubicBezTo>
                <a:cubicBezTo>
                  <a:pt x="4021" y="90"/>
                  <a:pt x="4465" y="100"/>
                  <a:pt x="4619" y="106"/>
                </a:cubicBezTo>
                <a:cubicBezTo>
                  <a:pt x="4773" y="112"/>
                  <a:pt x="4861" y="118"/>
                  <a:pt x="4953" y="123"/>
                </a:cubicBezTo>
                <a:lnTo>
                  <a:pt x="5170" y="137"/>
                </a:lnTo>
                <a:cubicBezTo>
                  <a:pt x="5222" y="147"/>
                  <a:pt x="5242" y="153"/>
                  <a:pt x="5266" y="185"/>
                </a:cubicBezTo>
                <a:cubicBezTo>
                  <a:pt x="5290" y="217"/>
                  <a:pt x="5303" y="208"/>
                  <a:pt x="5314" y="329"/>
                </a:cubicBezTo>
                <a:cubicBezTo>
                  <a:pt x="5325" y="450"/>
                  <a:pt x="5337" y="617"/>
                  <a:pt x="5334" y="914"/>
                </a:cubicBezTo>
                <a:cubicBezTo>
                  <a:pt x="5331" y="1211"/>
                  <a:pt x="5315" y="1674"/>
                  <a:pt x="5296" y="2112"/>
                </a:cubicBezTo>
                <a:cubicBezTo>
                  <a:pt x="5277" y="2550"/>
                  <a:pt x="5232" y="3278"/>
                  <a:pt x="5218" y="3545"/>
                </a:cubicBezTo>
                <a:cubicBezTo>
                  <a:pt x="5202" y="3808"/>
                  <a:pt x="5225" y="3668"/>
                  <a:pt x="5210" y="3716"/>
                </a:cubicBezTo>
                <a:cubicBezTo>
                  <a:pt x="5194" y="3763"/>
                  <a:pt x="5180" y="3827"/>
                  <a:pt x="5094" y="3855"/>
                </a:cubicBezTo>
                <a:cubicBezTo>
                  <a:pt x="5007" y="3882"/>
                  <a:pt x="4781" y="3886"/>
                  <a:pt x="4540" y="3893"/>
                </a:cubicBezTo>
                <a:cubicBezTo>
                  <a:pt x="4299" y="3900"/>
                  <a:pt x="4088" y="3909"/>
                  <a:pt x="3648" y="3901"/>
                </a:cubicBezTo>
                <a:cubicBezTo>
                  <a:pt x="3208" y="3893"/>
                  <a:pt x="2453" y="3869"/>
                  <a:pt x="1956" y="3847"/>
                </a:cubicBezTo>
                <a:cubicBezTo>
                  <a:pt x="1459" y="3825"/>
                  <a:pt x="1013" y="3801"/>
                  <a:pt x="717" y="3785"/>
                </a:cubicBezTo>
                <a:cubicBezTo>
                  <a:pt x="421" y="3769"/>
                  <a:pt x="353" y="3770"/>
                  <a:pt x="248" y="3755"/>
                </a:cubicBezTo>
                <a:cubicBezTo>
                  <a:pt x="142" y="3739"/>
                  <a:pt x="119" y="3755"/>
                  <a:pt x="82" y="3689"/>
                </a:cubicBezTo>
                <a:cubicBezTo>
                  <a:pt x="40" y="3625"/>
                  <a:pt x="38" y="3482"/>
                  <a:pt x="25" y="3355"/>
                </a:cubicBezTo>
                <a:cubicBezTo>
                  <a:pt x="12" y="3228"/>
                  <a:pt x="4" y="3094"/>
                  <a:pt x="2" y="2924"/>
                </a:cubicBezTo>
                <a:cubicBezTo>
                  <a:pt x="0" y="2754"/>
                  <a:pt x="0" y="2625"/>
                  <a:pt x="13" y="2336"/>
                </a:cubicBezTo>
                <a:lnTo>
                  <a:pt x="82" y="1193"/>
                </a:lnTo>
                <a:lnTo>
                  <a:pt x="125" y="432"/>
                </a:lnTo>
                <a:cubicBezTo>
                  <a:pt x="146" y="246"/>
                  <a:pt x="147" y="124"/>
                  <a:pt x="209" y="78"/>
                </a:cubicBezTo>
                <a:cubicBezTo>
                  <a:pt x="271" y="32"/>
                  <a:pt x="250" y="65"/>
                  <a:pt x="418" y="41"/>
                </a:cubicBezTo>
                <a:lnTo>
                  <a:pt x="813" y="17"/>
                </a:lnTo>
                <a:cubicBezTo>
                  <a:pt x="1012" y="10"/>
                  <a:pt x="1446" y="4"/>
                  <a:pt x="1613" y="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c1140b"/>
            </a:solidFill>
            <a:round/>
          </a:ln>
          <a:effectLst>
            <a:outerShdw dist="81185" dir="3078030" blurRad="0" rotWithShape="0">
              <a:srgbClr val="8f0b1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44560" y="2438280"/>
            <a:ext cx="7486560" cy="609480"/>
            <a:chOff x="844560" y="2438280"/>
            <a:chExt cx="7486560" cy="609480"/>
          </a:xfrm>
        </p:grpSpPr>
        <p:sp>
          <p:nvSpPr>
            <p:cNvPr id="47" name=""/>
            <p:cNvSpPr/>
            <p:nvPr/>
          </p:nvSpPr>
          <p:spPr>
            <a:xfrm>
              <a:off x="844560" y="2438280"/>
              <a:ext cx="7486560" cy="609480"/>
            </a:xfrm>
            <a:custGeom>
              <a:avLst/>
              <a:gdLst/>
              <a:ahLst/>
              <a:rect l="l" t="t" r="r" b="b"/>
              <a:pathLst>
                <a:path w="4716" h="456">
                  <a:moveTo>
                    <a:pt x="96" y="88"/>
                  </a:moveTo>
                  <a:cubicBezTo>
                    <a:pt x="175" y="64"/>
                    <a:pt x="288" y="16"/>
                    <a:pt x="480" y="40"/>
                  </a:cubicBezTo>
                  <a:cubicBezTo>
                    <a:pt x="671" y="63"/>
                    <a:pt x="984" y="224"/>
                    <a:pt x="1248" y="232"/>
                  </a:cubicBezTo>
                  <a:cubicBezTo>
                    <a:pt x="1512" y="240"/>
                    <a:pt x="1808" y="120"/>
                    <a:pt x="2064" y="88"/>
                  </a:cubicBezTo>
                  <a:cubicBezTo>
                    <a:pt x="2320" y="56"/>
                    <a:pt x="2464" y="0"/>
                    <a:pt x="2784" y="40"/>
                  </a:cubicBezTo>
                  <a:cubicBezTo>
                    <a:pt x="3103" y="79"/>
                    <a:pt x="3687" y="303"/>
                    <a:pt x="3984" y="328"/>
                  </a:cubicBezTo>
                  <a:cubicBezTo>
                    <a:pt x="4280" y="352"/>
                    <a:pt x="4439" y="200"/>
                    <a:pt x="4560" y="184"/>
                  </a:cubicBezTo>
                  <a:cubicBezTo>
                    <a:pt x="4680" y="167"/>
                    <a:pt x="4716" y="192"/>
                    <a:pt x="4704" y="232"/>
                  </a:cubicBezTo>
                  <a:cubicBezTo>
                    <a:pt x="4692" y="272"/>
                    <a:pt x="4687" y="248"/>
                    <a:pt x="4608" y="280"/>
                  </a:cubicBezTo>
                  <a:cubicBezTo>
                    <a:pt x="4528" y="311"/>
                    <a:pt x="4368" y="399"/>
                    <a:pt x="4224" y="424"/>
                  </a:cubicBezTo>
                  <a:cubicBezTo>
                    <a:pt x="4079" y="448"/>
                    <a:pt x="3928" y="456"/>
                    <a:pt x="3744" y="424"/>
                  </a:cubicBezTo>
                  <a:cubicBezTo>
                    <a:pt x="3560" y="392"/>
                    <a:pt x="3287" y="279"/>
                    <a:pt x="3120" y="232"/>
                  </a:cubicBezTo>
                  <a:cubicBezTo>
                    <a:pt x="2952" y="184"/>
                    <a:pt x="2856" y="152"/>
                    <a:pt x="2736" y="136"/>
                  </a:cubicBezTo>
                  <a:cubicBezTo>
                    <a:pt x="2615" y="119"/>
                    <a:pt x="2551" y="120"/>
                    <a:pt x="2400" y="136"/>
                  </a:cubicBezTo>
                  <a:cubicBezTo>
                    <a:pt x="2248" y="151"/>
                    <a:pt x="1960" y="208"/>
                    <a:pt x="1824" y="232"/>
                  </a:cubicBezTo>
                  <a:cubicBezTo>
                    <a:pt x="1688" y="256"/>
                    <a:pt x="1658" y="264"/>
                    <a:pt x="1584" y="280"/>
                  </a:cubicBezTo>
                  <a:cubicBezTo>
                    <a:pt x="1509" y="295"/>
                    <a:pt x="1456" y="317"/>
                    <a:pt x="1376" y="325"/>
                  </a:cubicBezTo>
                  <a:cubicBezTo>
                    <a:pt x="1296" y="333"/>
                    <a:pt x="1229" y="351"/>
                    <a:pt x="1104" y="328"/>
                  </a:cubicBezTo>
                  <a:cubicBezTo>
                    <a:pt x="978" y="304"/>
                    <a:pt x="727" y="215"/>
                    <a:pt x="624" y="184"/>
                  </a:cubicBezTo>
                  <a:cubicBezTo>
                    <a:pt x="520" y="152"/>
                    <a:pt x="532" y="148"/>
                    <a:pt x="480" y="136"/>
                  </a:cubicBezTo>
                  <a:cubicBezTo>
                    <a:pt x="427" y="123"/>
                    <a:pt x="371" y="103"/>
                    <a:pt x="307" y="110"/>
                  </a:cubicBezTo>
                  <a:cubicBezTo>
                    <a:pt x="243" y="117"/>
                    <a:pt x="146" y="171"/>
                    <a:pt x="96" y="184"/>
                  </a:cubicBezTo>
                  <a:cubicBezTo>
                    <a:pt x="45" y="196"/>
                    <a:pt x="0" y="200"/>
                    <a:pt x="0" y="184"/>
                  </a:cubicBezTo>
                  <a:cubicBezTo>
                    <a:pt x="0" y="168"/>
                    <a:pt x="16" y="111"/>
                    <a:pt x="96" y="88"/>
                  </a:cubicBezTo>
                  <a:close/>
                </a:path>
              </a:pathLst>
            </a:custGeom>
            <a:solidFill>
              <a:srgbClr val="c1140b"/>
            </a:solidFill>
            <a:ln w="0">
              <a:noFill/>
            </a:ln>
            <a:effectLst>
              <a:outerShdw dist="85328" dir="1593903" blurRad="0" rotWithShape="0">
                <a:srgbClr val="4c4c4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f0b18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95320" y="2498760"/>
              <a:ext cx="7334280" cy="441000"/>
            </a:xfrm>
            <a:custGeom>
              <a:avLst/>
              <a:gdLst/>
              <a:ahLst/>
              <a:rect l="l" t="t" r="r" b="b"/>
              <a:pathLst>
                <a:path w="4620" h="278">
                  <a:moveTo>
                    <a:pt x="0" y="89"/>
                  </a:moveTo>
                  <a:cubicBezTo>
                    <a:pt x="76" y="53"/>
                    <a:pt x="185" y="28"/>
                    <a:pt x="260" y="17"/>
                  </a:cubicBezTo>
                  <a:cubicBezTo>
                    <a:pt x="334" y="5"/>
                    <a:pt x="362" y="4"/>
                    <a:pt x="448" y="18"/>
                  </a:cubicBezTo>
                  <a:cubicBezTo>
                    <a:pt x="540" y="38"/>
                    <a:pt x="672" y="74"/>
                    <a:pt x="776" y="98"/>
                  </a:cubicBezTo>
                  <a:cubicBezTo>
                    <a:pt x="872" y="121"/>
                    <a:pt x="952" y="144"/>
                    <a:pt x="1028" y="158"/>
                  </a:cubicBezTo>
                  <a:cubicBezTo>
                    <a:pt x="1103" y="172"/>
                    <a:pt x="1156" y="181"/>
                    <a:pt x="1228" y="182"/>
                  </a:cubicBezTo>
                  <a:cubicBezTo>
                    <a:pt x="1299" y="182"/>
                    <a:pt x="1330" y="181"/>
                    <a:pt x="1456" y="162"/>
                  </a:cubicBezTo>
                  <a:cubicBezTo>
                    <a:pt x="1581" y="142"/>
                    <a:pt x="1790" y="92"/>
                    <a:pt x="1984" y="66"/>
                  </a:cubicBezTo>
                  <a:cubicBezTo>
                    <a:pt x="2177" y="39"/>
                    <a:pt x="2419" y="0"/>
                    <a:pt x="2616" y="5"/>
                  </a:cubicBezTo>
                  <a:cubicBezTo>
                    <a:pt x="2812" y="9"/>
                    <a:pt x="2966" y="52"/>
                    <a:pt x="3164" y="94"/>
                  </a:cubicBezTo>
                  <a:cubicBezTo>
                    <a:pt x="3361" y="135"/>
                    <a:pt x="3626" y="227"/>
                    <a:pt x="3800" y="253"/>
                  </a:cubicBezTo>
                  <a:cubicBezTo>
                    <a:pt x="3973" y="278"/>
                    <a:pt x="4089" y="263"/>
                    <a:pt x="4204" y="246"/>
                  </a:cubicBezTo>
                  <a:cubicBezTo>
                    <a:pt x="4318" y="228"/>
                    <a:pt x="4418" y="167"/>
                    <a:pt x="4488" y="150"/>
                  </a:cubicBezTo>
                  <a:cubicBezTo>
                    <a:pt x="4557" y="132"/>
                    <a:pt x="4592" y="140"/>
                    <a:pt x="4620" y="138"/>
                  </a:cubicBezTo>
                </a:path>
              </a:pathLst>
            </a:custGeom>
            <a:noFill/>
            <a:ln w="22320">
              <a:solidFill>
                <a:srgbClr val="f562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f0b18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f0b1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0b1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5791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f0b1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0b1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f0b1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014B-40F3-4CAD-AC9B-E67EC935D40D}" type="slidenum">
              <a:rPr b="0" lang="en-US" sz="1400" spc="-1" strike="noStrike">
                <a:solidFill>
                  <a:srgbClr val="8f0b1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0b1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f0b18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f0b18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0b18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8f0b18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b1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f0b18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f0b18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b1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f0b18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f0b18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b1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f0b18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f0b18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b1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13.xml"/><Relationship Id="rId8" Type="http://schemas.openxmlformats.org/officeDocument/2006/relationships/slide" Target="slide4.xml"/><Relationship Id="rId9" Type="http://schemas.openxmlformats.org/officeDocument/2006/relationships/slide" Target="slide9.xml"/><Relationship Id="rId10" Type="http://schemas.openxmlformats.org/officeDocument/2006/relationships/slide" Target="slide1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6.xml"/><Relationship Id="rId15" Type="http://schemas.openxmlformats.org/officeDocument/2006/relationships/slide" Target="slide11.xml"/><Relationship Id="rId16" Type="http://schemas.openxmlformats.org/officeDocument/2006/relationships/slide" Target="slide16.xml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Applause" TargetMode="External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Civics Jeopardy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2209680"/>
          <a:ext cx="7770960" cy="42055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4120"/>
                <a:gridCol w="1554120"/>
                <a:gridCol w="155448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f0b18"/>
                          </a:solidFill>
                          <a:latin typeface="Times New Roman"/>
                        </a:rPr>
                        <a:t>Bill of Rights</a:t>
                      </a:r>
                      <a:endParaRPr b="0" lang="en-US" sz="20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1368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f0b18"/>
                          </a:solidFill>
                          <a:latin typeface="Times New Roman"/>
                        </a:rPr>
                        <a:t>Miscellaneous</a:t>
                      </a:r>
                      <a:endParaRPr b="0" lang="en-US" sz="18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1368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f0b18"/>
                          </a:solidFill>
                          <a:latin typeface="Times New Roman"/>
                        </a:rPr>
                        <a:t>Three Branches</a:t>
                      </a:r>
                      <a:endParaRPr b="0" lang="en-US" sz="20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1368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f0b18"/>
                          </a:solidFill>
                          <a:latin typeface="Times New Roman"/>
                        </a:rPr>
                        <a:t>Checks and Balances</a:t>
                      </a:r>
                      <a:endParaRPr b="0" lang="en-US" sz="18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1368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f0b18"/>
                          </a:solidFill>
                          <a:latin typeface="Times New Roman"/>
                        </a:rPr>
                        <a:t>Numbers</a:t>
                      </a:r>
                      <a:endParaRPr b="0" lang="en-US" sz="18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f0b18"/>
                      </a:solidFill>
                    </a:lnL>
                    <a:lnR w="13680">
                      <a:solidFill>
                        <a:srgbClr val="8f0b18"/>
                      </a:solidFill>
                    </a:lnR>
                    <a:lnT w="1368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4618c6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4618c6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4618c6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f0b18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f0b18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0b18"/>
                      </a:solidFill>
                    </a:lnL>
                    <a:lnR w="1368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4618c6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2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4618c6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4618c6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f0b18"/>
                          </a:solidFill>
                          <a:latin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f0b18"/>
                          </a:solidFill>
                          <a:latin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0b18"/>
                      </a:solidFill>
                    </a:lnL>
                    <a:lnR w="1368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4618c6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3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4618c6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3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4618c6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f0b18"/>
                          </a:solidFill>
                          <a:latin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f0b18"/>
                          </a:solidFill>
                          <a:latin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0b18"/>
                      </a:solidFill>
                    </a:lnL>
                    <a:lnR w="1368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4618c6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4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4618c6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4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4618c6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4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f0b18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f0b18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0b18"/>
                      </a:solidFill>
                    </a:lnL>
                    <a:lnR w="1368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936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4618c6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5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1368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4618c6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5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1368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4618c6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5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1368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f0b18"/>
                          </a:solidFill>
                          <a:latin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0b18"/>
                      </a:solidFill>
                    </a:lnL>
                    <a:lnR w="576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1368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f0b18"/>
                          </a:solidFill>
                          <a:latin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8f0b1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0b18"/>
                      </a:solidFill>
                    </a:lnL>
                    <a:lnR w="13680">
                      <a:solidFill>
                        <a:srgbClr val="8f0b18"/>
                      </a:solidFill>
                    </a:lnR>
                    <a:lnT w="9360">
                      <a:solidFill>
                        <a:srgbClr val="8f0b18"/>
                      </a:solidFill>
                    </a:lnT>
                    <a:lnB w="13680">
                      <a:solidFill>
                        <a:srgbClr val="8f0b18"/>
                      </a:solidFill>
                    </a:lnB>
                    <a:solidFill>
                      <a:srgbClr val="dcee9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Miscellaneous 4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How many electoral votes does Maine have?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  <a:hlinkClick r:id="rId2"/>
          </p:cNvPr>
          <p:cNvSpPr/>
          <p:nvPr/>
        </p:nvSpPr>
        <p:spPr>
          <a:xfrm>
            <a:off x="9144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14840" y="3837"/>
                </a:moveTo>
                <a:lnTo>
                  <a:pt x="17416" y="6448"/>
                </a:lnTo>
                <a:lnTo>
                  <a:pt x="17416" y="4707"/>
                </a:lnTo>
                <a:lnTo>
                  <a:pt x="19191" y="4707"/>
                </a:lnTo>
                <a:lnTo>
                  <a:pt x="19191" y="8224"/>
                </a:lnTo>
                <a:lnTo>
                  <a:pt x="21803" y="10800"/>
                </a:lnTo>
                <a:lnTo>
                  <a:pt x="20149" y="10800"/>
                </a:lnTo>
                <a:lnTo>
                  <a:pt x="20149" y="17989"/>
                </a:lnTo>
                <a:lnTo>
                  <a:pt x="9530" y="17989"/>
                </a:lnTo>
                <a:lnTo>
                  <a:pt x="9530" y="10800"/>
                </a:lnTo>
                <a:lnTo>
                  <a:pt x="7877" y="10800"/>
                </a:lnTo>
                <a:close/>
              </a:path>
              <a:path fill="darkenLess" w="29679" h="21600">
                <a:moveTo>
                  <a:pt x="17416" y="6448"/>
                </a:moveTo>
                <a:lnTo>
                  <a:pt x="17416" y="4707"/>
                </a:lnTo>
                <a:lnTo>
                  <a:pt x="19191" y="4707"/>
                </a:lnTo>
                <a:lnTo>
                  <a:pt x="19191" y="8224"/>
                </a:lnTo>
                <a:close/>
              </a:path>
              <a:path fill="darkenLess" w="29679" h="21600">
                <a:moveTo>
                  <a:pt x="13917" y="14299"/>
                </a:moveTo>
                <a:lnTo>
                  <a:pt x="15762" y="14299"/>
                </a:lnTo>
                <a:lnTo>
                  <a:pt x="15762" y="17989"/>
                </a:lnTo>
                <a:lnTo>
                  <a:pt x="20149" y="17989"/>
                </a:lnTo>
                <a:lnTo>
                  <a:pt x="20149" y="10800"/>
                </a:lnTo>
                <a:lnTo>
                  <a:pt x="9530" y="10800"/>
                </a:lnTo>
                <a:lnTo>
                  <a:pt x="9530" y="17989"/>
                </a:lnTo>
                <a:lnTo>
                  <a:pt x="13917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Miscellaneous 5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How many electoral votes are needed to become President?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  <a:hlinkClick r:id="rId2"/>
          </p:cNvPr>
          <p:cNvSpPr/>
          <p:nvPr/>
        </p:nvSpPr>
        <p:spPr>
          <a:xfrm>
            <a:off x="9144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14840" y="3837"/>
                </a:moveTo>
                <a:lnTo>
                  <a:pt x="17416" y="6448"/>
                </a:lnTo>
                <a:lnTo>
                  <a:pt x="17416" y="4707"/>
                </a:lnTo>
                <a:lnTo>
                  <a:pt x="19191" y="4707"/>
                </a:lnTo>
                <a:lnTo>
                  <a:pt x="19191" y="8224"/>
                </a:lnTo>
                <a:lnTo>
                  <a:pt x="21803" y="10800"/>
                </a:lnTo>
                <a:lnTo>
                  <a:pt x="20149" y="10800"/>
                </a:lnTo>
                <a:lnTo>
                  <a:pt x="20149" y="17989"/>
                </a:lnTo>
                <a:lnTo>
                  <a:pt x="9530" y="17989"/>
                </a:lnTo>
                <a:lnTo>
                  <a:pt x="9530" y="10800"/>
                </a:lnTo>
                <a:lnTo>
                  <a:pt x="7877" y="10800"/>
                </a:lnTo>
                <a:close/>
              </a:path>
              <a:path fill="darkenLess" w="29679" h="21600">
                <a:moveTo>
                  <a:pt x="17416" y="6448"/>
                </a:moveTo>
                <a:lnTo>
                  <a:pt x="17416" y="4707"/>
                </a:lnTo>
                <a:lnTo>
                  <a:pt x="19191" y="4707"/>
                </a:lnTo>
                <a:lnTo>
                  <a:pt x="19191" y="8224"/>
                </a:lnTo>
                <a:close/>
              </a:path>
              <a:path fill="darkenLess" w="29679" h="21600">
                <a:moveTo>
                  <a:pt x="13917" y="14299"/>
                </a:moveTo>
                <a:lnTo>
                  <a:pt x="15762" y="14299"/>
                </a:lnTo>
                <a:lnTo>
                  <a:pt x="15762" y="17989"/>
                </a:lnTo>
                <a:lnTo>
                  <a:pt x="20149" y="17989"/>
                </a:lnTo>
                <a:lnTo>
                  <a:pt x="20149" y="10800"/>
                </a:lnTo>
                <a:lnTo>
                  <a:pt x="9530" y="10800"/>
                </a:lnTo>
                <a:lnTo>
                  <a:pt x="9530" y="17989"/>
                </a:lnTo>
                <a:lnTo>
                  <a:pt x="13917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Three Branches 1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How long is the term for a Supreme Court Justice?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  <a:hlinkClick r:id="rId2"/>
          </p:cNvPr>
          <p:cNvSpPr/>
          <p:nvPr/>
        </p:nvSpPr>
        <p:spPr>
          <a:xfrm>
            <a:off x="838080" y="55627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Three Branches 2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How long is the term for a Senator?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  <a:hlinkClick r:id="rId2"/>
          </p:cNvPr>
          <p:cNvSpPr/>
          <p:nvPr/>
        </p:nvSpPr>
        <p:spPr>
          <a:xfrm>
            <a:off x="838080" y="55627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Three Branches 3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How many terms may a US president serve? 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  <a:hlinkClick r:id="rId2"/>
          </p:cNvPr>
          <p:cNvSpPr/>
          <p:nvPr/>
        </p:nvSpPr>
        <p:spPr>
          <a:xfrm>
            <a:off x="838080" y="55627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Three Branches 4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How long is the term for a member of the House of Representatives?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  <a:hlinkClick r:id="rId2"/>
          </p:cNvPr>
          <p:cNvSpPr/>
          <p:nvPr/>
        </p:nvSpPr>
        <p:spPr>
          <a:xfrm>
            <a:off x="838080" y="55627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Three Branches 5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What is the name of the Chief Justice of the Supreme Court?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  <a:hlinkClick r:id="rId2"/>
          </p:cNvPr>
          <p:cNvSpPr/>
          <p:nvPr/>
        </p:nvSpPr>
        <p:spPr>
          <a:xfrm>
            <a:off x="838080" y="55627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Checks and Balances 1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Name one way the judicial branch can check the legislative branch.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firstslide"/>
            <a:hlinkClick r:id="rId2"/>
          </p:cNvPr>
          <p:cNvSpPr/>
          <p:nvPr/>
        </p:nvSpPr>
        <p:spPr>
          <a:xfrm>
            <a:off x="838080" y="55627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Checks and Balances 2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6765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When a vacancy opens on the Supreme Court, the president nominates a new justice. This group must approve this presidential appointment, or choice, by a 2/3 vote.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  <a:hlinkClick r:id="rId2"/>
          </p:cNvPr>
          <p:cNvSpPr/>
          <p:nvPr/>
        </p:nvSpPr>
        <p:spPr>
          <a:xfrm>
            <a:off x="838080" y="55627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Checks and Balances 3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Name one way that the legislative branch can check the executive branch.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firstslide"/>
            <a:hlinkClick r:id="rId2"/>
          </p:cNvPr>
          <p:cNvSpPr/>
          <p:nvPr/>
        </p:nvSpPr>
        <p:spPr>
          <a:xfrm>
            <a:off x="838080" y="55627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Bill of Rights 100 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2640" y="3429000"/>
            <a:ext cx="5715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4" marL="1828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Which Amendment guarantees citizens the right to bear arms?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  <a:hlinkClick r:id="rId2"/>
          </p:cNvPr>
          <p:cNvSpPr/>
          <p:nvPr/>
        </p:nvSpPr>
        <p:spPr>
          <a:xfrm>
            <a:off x="838080" y="55627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Checks and Balances 4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Name one way the executive branch can check the legislative branch.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  <a:hlinkClick r:id="rId2"/>
          </p:cNvPr>
          <p:cNvSpPr/>
          <p:nvPr/>
        </p:nvSpPr>
        <p:spPr>
          <a:xfrm>
            <a:off x="838080" y="55627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Checks and Balances 5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Name one way the judicial branch can check the executive branch.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  <a:hlinkClick r:id="rId2"/>
          </p:cNvPr>
          <p:cNvSpPr/>
          <p:nvPr/>
        </p:nvSpPr>
        <p:spPr>
          <a:xfrm>
            <a:off x="838080" y="55627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Numbers 1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How many Senators are there? 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firstslide"/>
            <a:hlinkClick r:id="rId2"/>
          </p:cNvPr>
          <p:cNvSpPr/>
          <p:nvPr/>
        </p:nvSpPr>
        <p:spPr>
          <a:xfrm>
            <a:off x="838080" y="55627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Numbers 200 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How old must you be in order to meet the qualifications for President?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  <a:hlinkClick r:id="rId2"/>
          </p:cNvPr>
          <p:cNvSpPr/>
          <p:nvPr/>
        </p:nvSpPr>
        <p:spPr>
          <a:xfrm>
            <a:off x="838080" y="55627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Numbers 3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How many electoral votes are needed to become President?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  <a:hlinkClick r:id="rId2"/>
          </p:cNvPr>
          <p:cNvSpPr/>
          <p:nvPr/>
        </p:nvSpPr>
        <p:spPr>
          <a:xfrm>
            <a:off x="838080" y="55627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Numbers 4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8288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In order to override a President’s veto, what majority (1/2, 2/3, or 3/4) must both the House and the Senate EACH have? 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  <a:hlinkClick r:id="rId2"/>
          </p:cNvPr>
          <p:cNvSpPr/>
          <p:nvPr/>
        </p:nvSpPr>
        <p:spPr>
          <a:xfrm>
            <a:off x="838080" y="55627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Numbers 5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What is the formula for determining the number of electors each state may send to the Electoral College? 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firstslide"/>
            <a:hlinkClick r:id="rId2"/>
          </p:cNvPr>
          <p:cNvSpPr/>
          <p:nvPr/>
        </p:nvSpPr>
        <p:spPr>
          <a:xfrm>
            <a:off x="838080" y="55627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4855" y="3837"/>
                </a:moveTo>
                <a:lnTo>
                  <a:pt x="17431" y="6448"/>
                </a:ln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lnTo>
                  <a:pt x="21818" y="10800"/>
                </a:lnTo>
                <a:lnTo>
                  <a:pt x="20164" y="10800"/>
                </a:lnTo>
                <a:lnTo>
                  <a:pt x="20164" y="17989"/>
                </a:lnTo>
                <a:lnTo>
                  <a:pt x="9546" y="17989"/>
                </a:lnTo>
                <a:lnTo>
                  <a:pt x="9546" y="10800"/>
                </a:lnTo>
                <a:lnTo>
                  <a:pt x="7892" y="10800"/>
                </a:lnTo>
                <a:close/>
              </a:path>
              <a:path fill="darkenLess" w="29710" h="21600">
                <a:moveTo>
                  <a:pt x="17431" y="6448"/>
                </a:moveTo>
                <a:lnTo>
                  <a:pt x="17431" y="4707"/>
                </a:lnTo>
                <a:lnTo>
                  <a:pt x="19207" y="4707"/>
                </a:lnTo>
                <a:lnTo>
                  <a:pt x="19207" y="8224"/>
                </a:lnTo>
                <a:close/>
              </a:path>
              <a:path fill="darkenLess" w="29710" h="21600">
                <a:moveTo>
                  <a:pt x="13932" y="14299"/>
                </a:moveTo>
                <a:lnTo>
                  <a:pt x="15777" y="14299"/>
                </a:lnTo>
                <a:lnTo>
                  <a:pt x="15777" y="17989"/>
                </a:lnTo>
                <a:lnTo>
                  <a:pt x="20164" y="17989"/>
                </a:lnTo>
                <a:lnTo>
                  <a:pt x="20164" y="10800"/>
                </a:lnTo>
                <a:lnTo>
                  <a:pt x="9546" y="10800"/>
                </a:lnTo>
                <a:lnTo>
                  <a:pt x="9546" y="17989"/>
                </a:lnTo>
                <a:lnTo>
                  <a:pt x="13932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Bill of Rights 2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What are two of the freedoms protected by the 1st Amendment?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  <a:hlinkClick r:id="rId2"/>
          </p:cNvPr>
          <p:cNvSpPr/>
          <p:nvPr/>
        </p:nvSpPr>
        <p:spPr>
          <a:xfrm>
            <a:off x="9144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14840" y="3837"/>
                </a:moveTo>
                <a:lnTo>
                  <a:pt x="17416" y="6448"/>
                </a:lnTo>
                <a:lnTo>
                  <a:pt x="17416" y="4707"/>
                </a:lnTo>
                <a:lnTo>
                  <a:pt x="19191" y="4707"/>
                </a:lnTo>
                <a:lnTo>
                  <a:pt x="19191" y="8224"/>
                </a:lnTo>
                <a:lnTo>
                  <a:pt x="21803" y="10800"/>
                </a:lnTo>
                <a:lnTo>
                  <a:pt x="20149" y="10800"/>
                </a:lnTo>
                <a:lnTo>
                  <a:pt x="20149" y="17989"/>
                </a:lnTo>
                <a:lnTo>
                  <a:pt x="9530" y="17989"/>
                </a:lnTo>
                <a:lnTo>
                  <a:pt x="9530" y="10800"/>
                </a:lnTo>
                <a:lnTo>
                  <a:pt x="7877" y="10800"/>
                </a:lnTo>
                <a:close/>
              </a:path>
              <a:path fill="darkenLess" w="29679" h="21600">
                <a:moveTo>
                  <a:pt x="17416" y="6448"/>
                </a:moveTo>
                <a:lnTo>
                  <a:pt x="17416" y="4707"/>
                </a:lnTo>
                <a:lnTo>
                  <a:pt x="19191" y="4707"/>
                </a:lnTo>
                <a:lnTo>
                  <a:pt x="19191" y="8224"/>
                </a:lnTo>
                <a:close/>
              </a:path>
              <a:path fill="darkenLess" w="29679" h="21600">
                <a:moveTo>
                  <a:pt x="13917" y="14299"/>
                </a:moveTo>
                <a:lnTo>
                  <a:pt x="15762" y="14299"/>
                </a:lnTo>
                <a:lnTo>
                  <a:pt x="15762" y="17989"/>
                </a:lnTo>
                <a:lnTo>
                  <a:pt x="20149" y="17989"/>
                </a:lnTo>
                <a:lnTo>
                  <a:pt x="20149" y="10800"/>
                </a:lnTo>
                <a:lnTo>
                  <a:pt x="9530" y="10800"/>
                </a:lnTo>
                <a:lnTo>
                  <a:pt x="9530" y="17989"/>
                </a:lnTo>
                <a:lnTo>
                  <a:pt x="13917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Bill of Rights 3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The 4th Amendment protects citizens from unreasonble ________ and ___________.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firstslide"/>
            <a:hlinkClick r:id="rId2"/>
          </p:cNvPr>
          <p:cNvSpPr/>
          <p:nvPr/>
        </p:nvSpPr>
        <p:spPr>
          <a:xfrm>
            <a:off x="9144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14840" y="3837"/>
                </a:moveTo>
                <a:lnTo>
                  <a:pt x="17416" y="6448"/>
                </a:lnTo>
                <a:lnTo>
                  <a:pt x="17416" y="4707"/>
                </a:lnTo>
                <a:lnTo>
                  <a:pt x="19191" y="4707"/>
                </a:lnTo>
                <a:lnTo>
                  <a:pt x="19191" y="8224"/>
                </a:lnTo>
                <a:lnTo>
                  <a:pt x="21803" y="10800"/>
                </a:lnTo>
                <a:lnTo>
                  <a:pt x="20149" y="10800"/>
                </a:lnTo>
                <a:lnTo>
                  <a:pt x="20149" y="17989"/>
                </a:lnTo>
                <a:lnTo>
                  <a:pt x="9530" y="17989"/>
                </a:lnTo>
                <a:lnTo>
                  <a:pt x="9530" y="10800"/>
                </a:lnTo>
                <a:lnTo>
                  <a:pt x="7877" y="10800"/>
                </a:lnTo>
                <a:close/>
              </a:path>
              <a:path fill="darkenLess" w="29679" h="21600">
                <a:moveTo>
                  <a:pt x="17416" y="6448"/>
                </a:moveTo>
                <a:lnTo>
                  <a:pt x="17416" y="4707"/>
                </a:lnTo>
                <a:lnTo>
                  <a:pt x="19191" y="4707"/>
                </a:lnTo>
                <a:lnTo>
                  <a:pt x="19191" y="8224"/>
                </a:lnTo>
                <a:close/>
              </a:path>
              <a:path fill="darkenLess" w="29679" h="21600">
                <a:moveTo>
                  <a:pt x="13917" y="14299"/>
                </a:moveTo>
                <a:lnTo>
                  <a:pt x="15762" y="14299"/>
                </a:lnTo>
                <a:lnTo>
                  <a:pt x="15762" y="17989"/>
                </a:lnTo>
                <a:lnTo>
                  <a:pt x="20149" y="17989"/>
                </a:lnTo>
                <a:lnTo>
                  <a:pt x="20149" y="10800"/>
                </a:lnTo>
                <a:lnTo>
                  <a:pt x="9530" y="10800"/>
                </a:lnTo>
                <a:lnTo>
                  <a:pt x="9530" y="17989"/>
                </a:lnTo>
                <a:lnTo>
                  <a:pt x="13917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Bill of Rights 4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This is the name given to the 5th amendment right that protects against an individual from being tried twice for the same offense.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  <a:hlinkClick r:id="rId2"/>
          </p:cNvPr>
          <p:cNvSpPr/>
          <p:nvPr/>
        </p:nvSpPr>
        <p:spPr>
          <a:xfrm>
            <a:off x="9144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14840" y="3837"/>
                </a:moveTo>
                <a:lnTo>
                  <a:pt x="17416" y="6448"/>
                </a:lnTo>
                <a:lnTo>
                  <a:pt x="17416" y="4707"/>
                </a:lnTo>
                <a:lnTo>
                  <a:pt x="19191" y="4707"/>
                </a:lnTo>
                <a:lnTo>
                  <a:pt x="19191" y="8224"/>
                </a:lnTo>
                <a:lnTo>
                  <a:pt x="21803" y="10800"/>
                </a:lnTo>
                <a:lnTo>
                  <a:pt x="20149" y="10800"/>
                </a:lnTo>
                <a:lnTo>
                  <a:pt x="20149" y="17989"/>
                </a:lnTo>
                <a:lnTo>
                  <a:pt x="9530" y="17989"/>
                </a:lnTo>
                <a:lnTo>
                  <a:pt x="9530" y="10800"/>
                </a:lnTo>
                <a:lnTo>
                  <a:pt x="7877" y="10800"/>
                </a:lnTo>
                <a:close/>
              </a:path>
              <a:path fill="darkenLess" w="29679" h="21600">
                <a:moveTo>
                  <a:pt x="17416" y="6448"/>
                </a:moveTo>
                <a:lnTo>
                  <a:pt x="17416" y="4707"/>
                </a:lnTo>
                <a:lnTo>
                  <a:pt x="19191" y="4707"/>
                </a:lnTo>
                <a:lnTo>
                  <a:pt x="19191" y="8224"/>
                </a:lnTo>
                <a:close/>
              </a:path>
              <a:path fill="darkenLess" w="29679" h="21600">
                <a:moveTo>
                  <a:pt x="13917" y="14299"/>
                </a:moveTo>
                <a:lnTo>
                  <a:pt x="15762" y="14299"/>
                </a:lnTo>
                <a:lnTo>
                  <a:pt x="15762" y="17989"/>
                </a:lnTo>
                <a:lnTo>
                  <a:pt x="20149" y="17989"/>
                </a:lnTo>
                <a:lnTo>
                  <a:pt x="20149" y="10800"/>
                </a:lnTo>
                <a:lnTo>
                  <a:pt x="9530" y="10800"/>
                </a:lnTo>
                <a:lnTo>
                  <a:pt x="9530" y="17989"/>
                </a:lnTo>
                <a:lnTo>
                  <a:pt x="13917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Bill of Rights 5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This is the Amendment that protects an individual from having to testify against oneself at trial.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  <a:hlinkClick r:id="rId2"/>
          </p:cNvPr>
          <p:cNvSpPr/>
          <p:nvPr/>
        </p:nvSpPr>
        <p:spPr>
          <a:xfrm>
            <a:off x="9144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14840" y="3837"/>
                </a:moveTo>
                <a:lnTo>
                  <a:pt x="17416" y="6448"/>
                </a:lnTo>
                <a:lnTo>
                  <a:pt x="17416" y="4707"/>
                </a:lnTo>
                <a:lnTo>
                  <a:pt x="19191" y="4707"/>
                </a:lnTo>
                <a:lnTo>
                  <a:pt x="19191" y="8224"/>
                </a:lnTo>
                <a:lnTo>
                  <a:pt x="21803" y="10800"/>
                </a:lnTo>
                <a:lnTo>
                  <a:pt x="20149" y="10800"/>
                </a:lnTo>
                <a:lnTo>
                  <a:pt x="20149" y="17989"/>
                </a:lnTo>
                <a:lnTo>
                  <a:pt x="9530" y="17989"/>
                </a:lnTo>
                <a:lnTo>
                  <a:pt x="9530" y="10800"/>
                </a:lnTo>
                <a:lnTo>
                  <a:pt x="7877" y="10800"/>
                </a:lnTo>
                <a:close/>
              </a:path>
              <a:path fill="darkenLess" w="29679" h="21600">
                <a:moveTo>
                  <a:pt x="17416" y="6448"/>
                </a:moveTo>
                <a:lnTo>
                  <a:pt x="17416" y="4707"/>
                </a:lnTo>
                <a:lnTo>
                  <a:pt x="19191" y="4707"/>
                </a:lnTo>
                <a:lnTo>
                  <a:pt x="19191" y="8224"/>
                </a:lnTo>
                <a:close/>
              </a:path>
              <a:path fill="darkenLess" w="29679" h="21600">
                <a:moveTo>
                  <a:pt x="13917" y="14299"/>
                </a:moveTo>
                <a:lnTo>
                  <a:pt x="15762" y="14299"/>
                </a:lnTo>
                <a:lnTo>
                  <a:pt x="15762" y="17989"/>
                </a:lnTo>
                <a:lnTo>
                  <a:pt x="20149" y="17989"/>
                </a:lnTo>
                <a:lnTo>
                  <a:pt x="20149" y="10800"/>
                </a:lnTo>
                <a:lnTo>
                  <a:pt x="9530" y="10800"/>
                </a:lnTo>
                <a:lnTo>
                  <a:pt x="9530" y="17989"/>
                </a:lnTo>
                <a:lnTo>
                  <a:pt x="13917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Miscellaneous 1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Who is the Vice President of the United States?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  <a:hlinkClick r:id="rId2"/>
          </p:cNvPr>
          <p:cNvSpPr/>
          <p:nvPr/>
        </p:nvSpPr>
        <p:spPr>
          <a:xfrm>
            <a:off x="9144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14840" y="3837"/>
                </a:moveTo>
                <a:lnTo>
                  <a:pt x="17416" y="6448"/>
                </a:lnTo>
                <a:lnTo>
                  <a:pt x="17416" y="4707"/>
                </a:lnTo>
                <a:lnTo>
                  <a:pt x="19191" y="4707"/>
                </a:lnTo>
                <a:lnTo>
                  <a:pt x="19191" y="8224"/>
                </a:lnTo>
                <a:lnTo>
                  <a:pt x="21803" y="10800"/>
                </a:lnTo>
                <a:lnTo>
                  <a:pt x="20149" y="10800"/>
                </a:lnTo>
                <a:lnTo>
                  <a:pt x="20149" y="17989"/>
                </a:lnTo>
                <a:lnTo>
                  <a:pt x="9530" y="17989"/>
                </a:lnTo>
                <a:lnTo>
                  <a:pt x="9530" y="10800"/>
                </a:lnTo>
                <a:lnTo>
                  <a:pt x="7877" y="10800"/>
                </a:lnTo>
                <a:close/>
              </a:path>
              <a:path fill="darkenLess" w="29679" h="21600">
                <a:moveTo>
                  <a:pt x="17416" y="6448"/>
                </a:moveTo>
                <a:lnTo>
                  <a:pt x="17416" y="4707"/>
                </a:lnTo>
                <a:lnTo>
                  <a:pt x="19191" y="4707"/>
                </a:lnTo>
                <a:lnTo>
                  <a:pt x="19191" y="8224"/>
                </a:lnTo>
                <a:close/>
              </a:path>
              <a:path fill="darkenLess" w="29679" h="21600">
                <a:moveTo>
                  <a:pt x="13917" y="14299"/>
                </a:moveTo>
                <a:lnTo>
                  <a:pt x="15762" y="14299"/>
                </a:lnTo>
                <a:lnTo>
                  <a:pt x="15762" y="17989"/>
                </a:lnTo>
                <a:lnTo>
                  <a:pt x="20149" y="17989"/>
                </a:lnTo>
                <a:lnTo>
                  <a:pt x="20149" y="10800"/>
                </a:lnTo>
                <a:lnTo>
                  <a:pt x="9530" y="10800"/>
                </a:lnTo>
                <a:lnTo>
                  <a:pt x="9530" y="17989"/>
                </a:lnTo>
                <a:lnTo>
                  <a:pt x="13917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Miscellaneous 2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Name one power delegated to the federal government that the state government does not have.  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  <a:hlinkClick r:id="rId2"/>
          </p:cNvPr>
          <p:cNvSpPr/>
          <p:nvPr/>
        </p:nvSpPr>
        <p:spPr>
          <a:xfrm>
            <a:off x="9144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14840" y="3837"/>
                </a:moveTo>
                <a:lnTo>
                  <a:pt x="17416" y="6448"/>
                </a:lnTo>
                <a:lnTo>
                  <a:pt x="17416" y="4707"/>
                </a:lnTo>
                <a:lnTo>
                  <a:pt x="19191" y="4707"/>
                </a:lnTo>
                <a:lnTo>
                  <a:pt x="19191" y="8224"/>
                </a:lnTo>
                <a:lnTo>
                  <a:pt x="21803" y="10800"/>
                </a:lnTo>
                <a:lnTo>
                  <a:pt x="20149" y="10800"/>
                </a:lnTo>
                <a:lnTo>
                  <a:pt x="20149" y="17989"/>
                </a:lnTo>
                <a:lnTo>
                  <a:pt x="9530" y="17989"/>
                </a:lnTo>
                <a:lnTo>
                  <a:pt x="9530" y="10800"/>
                </a:lnTo>
                <a:lnTo>
                  <a:pt x="7877" y="10800"/>
                </a:lnTo>
                <a:close/>
              </a:path>
              <a:path fill="darkenLess" w="29679" h="21600">
                <a:moveTo>
                  <a:pt x="17416" y="6448"/>
                </a:moveTo>
                <a:lnTo>
                  <a:pt x="17416" y="4707"/>
                </a:lnTo>
                <a:lnTo>
                  <a:pt x="19191" y="4707"/>
                </a:lnTo>
                <a:lnTo>
                  <a:pt x="19191" y="8224"/>
                </a:lnTo>
                <a:close/>
              </a:path>
              <a:path fill="darkenLess" w="29679" h="21600">
                <a:moveTo>
                  <a:pt x="13917" y="14299"/>
                </a:moveTo>
                <a:lnTo>
                  <a:pt x="15762" y="14299"/>
                </a:lnTo>
                <a:lnTo>
                  <a:pt x="15762" y="17989"/>
                </a:lnTo>
                <a:lnTo>
                  <a:pt x="20149" y="17989"/>
                </a:lnTo>
                <a:lnTo>
                  <a:pt x="20149" y="10800"/>
                </a:lnTo>
                <a:lnTo>
                  <a:pt x="9530" y="10800"/>
                </a:lnTo>
                <a:lnTo>
                  <a:pt x="9530" y="17989"/>
                </a:lnTo>
                <a:lnTo>
                  <a:pt x="13917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512d"/>
                </a:solidFill>
                <a:latin typeface="Times New Roman"/>
              </a:rPr>
              <a:t>Miscellaneous 300</a:t>
            </a:r>
            <a:endParaRPr b="0" lang="en-US" sz="4400" spc="-1" strike="noStrike">
              <a:solidFill>
                <a:srgbClr val="08512d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0b18"/>
                </a:solidFill>
                <a:latin typeface="Times New Roman"/>
              </a:rPr>
              <a:t>What are the names of Maine’s two US Senators?</a:t>
            </a:r>
            <a:endParaRPr b="0" lang="en-US" sz="3200" spc="-1" strike="noStrike">
              <a:solidFill>
                <a:srgbClr val="8f0b18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  <a:hlinkClick r:id="rId2"/>
          </p:cNvPr>
          <p:cNvSpPr/>
          <p:nvPr/>
        </p:nvSpPr>
        <p:spPr>
          <a:xfrm>
            <a:off x="9144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14840" y="3837"/>
                </a:moveTo>
                <a:lnTo>
                  <a:pt x="17416" y="6448"/>
                </a:lnTo>
                <a:lnTo>
                  <a:pt x="17416" y="4707"/>
                </a:lnTo>
                <a:lnTo>
                  <a:pt x="19191" y="4707"/>
                </a:lnTo>
                <a:lnTo>
                  <a:pt x="19191" y="8224"/>
                </a:lnTo>
                <a:lnTo>
                  <a:pt x="21803" y="10800"/>
                </a:lnTo>
                <a:lnTo>
                  <a:pt x="20149" y="10800"/>
                </a:lnTo>
                <a:lnTo>
                  <a:pt x="20149" y="17989"/>
                </a:lnTo>
                <a:lnTo>
                  <a:pt x="9530" y="17989"/>
                </a:lnTo>
                <a:lnTo>
                  <a:pt x="9530" y="10800"/>
                </a:lnTo>
                <a:lnTo>
                  <a:pt x="7877" y="10800"/>
                </a:lnTo>
                <a:close/>
              </a:path>
              <a:path fill="darkenLess" w="29679" h="21600">
                <a:moveTo>
                  <a:pt x="17416" y="6448"/>
                </a:moveTo>
                <a:lnTo>
                  <a:pt x="17416" y="4707"/>
                </a:lnTo>
                <a:lnTo>
                  <a:pt x="19191" y="4707"/>
                </a:lnTo>
                <a:lnTo>
                  <a:pt x="19191" y="8224"/>
                </a:lnTo>
                <a:close/>
              </a:path>
              <a:path fill="darkenLess" w="29679" h="21600">
                <a:moveTo>
                  <a:pt x="13917" y="14299"/>
                </a:moveTo>
                <a:lnTo>
                  <a:pt x="15762" y="14299"/>
                </a:lnTo>
                <a:lnTo>
                  <a:pt x="15762" y="17989"/>
                </a:lnTo>
                <a:lnTo>
                  <a:pt x="20149" y="17989"/>
                </a:lnTo>
                <a:lnTo>
                  <a:pt x="20149" y="10800"/>
                </a:lnTo>
                <a:lnTo>
                  <a:pt x="9530" y="10800"/>
                </a:lnTo>
                <a:lnTo>
                  <a:pt x="9530" y="17989"/>
                </a:lnTo>
                <a:lnTo>
                  <a:pt x="13917" y="17989"/>
                </a:lnTo>
                <a:close/>
              </a:path>
            </a:pathLst>
          </a:custGeom>
          <a:solidFill>
            <a:srgbClr val="dcee98"/>
          </a:solidFill>
          <a:ln w="9360">
            <a:solidFill>
              <a:srgbClr val="8f0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0b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00:53:02Z</dcterms:created>
  <dc:creator>JonMMx 2000</dc:creator>
  <dc:description/>
  <dc:language>en-US</dc:language>
  <cp:lastModifiedBy>YHS Teacher</cp:lastModifiedBy>
  <dcterms:modified xsi:type="dcterms:W3CDTF">2008-10-20T13:58:00Z</dcterms:modified>
  <cp:revision>44</cp:revision>
  <dc:subject/>
  <dc:title>Presidents Round 1</dc:title>
</cp:coreProperties>
</file>